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1AD-1058-44DD-96F9-71724182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A70-2D7D-4F4C-8740-8ADCD0B5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BD8-8151-41B4-B4B0-D7D73300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CCE-8DE3-49CA-B0E5-48F3BBFB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12B-F3E1-4BE5-B9E7-0C7F0BE0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CF7-0D9A-4967-949F-F7AA7BB0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E4E-7B6F-43EC-BF1C-0AE2F6D8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666-B2A6-4FF6-8A68-52F4ABB8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F4F-93EC-4171-BE6F-DF3B3B5A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CCB-33D8-40A5-9A32-F8A94D58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67C-F6A2-4923-A6DB-12EFE4CC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6F7-EBC5-4414-8111-7144CFC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984B-7825-484D-BE51-C8F5DDB48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bik TW-1 &amp; TW-2 Chroma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48520" y="6491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96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0" y="5335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bik TW-1, 3599 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81880" cy="6019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927920" y="64008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9603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0" y="5335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bik TW-2, 1863 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586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27920" y="64198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960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0" y="5335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bik TW-2, 1868 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9:57:45Z</dcterms:created>
  <dc:creator>Albert G. Holba</dc:creator>
  <dc:description/>
  <dc:language>en-US</dc:language>
  <cp:lastModifiedBy>Albert G. Holba</cp:lastModifiedBy>
  <dcterms:modified xsi:type="dcterms:W3CDTF">2009-04-07T20:10:22Z</dcterms:modified>
  <cp:revision>2</cp:revision>
  <dc:subject/>
  <dc:title>Gubik TW-1 &amp; TW-2 Chromatograms</dc:title>
</cp:coreProperties>
</file>